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E36E-C3A4-4E81-A440-3E7F8BA208A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ους υπολογισμούς συμβαίνει με τέσσερις τρόπου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αλοιφή δεκαδικών ψηφίων για χρήση πιο ακέραιου αριθμού</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λογιστικά λάθη</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λανθασμένης μαθηματικής εξίσω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Χρήση αριθμών που είναι γνωστοί κατά προσέγγισ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φυσικές μετρήσιμες ποσότητες η έννοια της ακρίβειας είναι πιθανοκρατική και όχι απόλυτη.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η εύκολη αναγωγή στη σχετικότητα χωρίς επεξήγηση δεν ωφελεί πρακτικά.</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Γι αυτό πρέπει πάντα να αναφέρεται το είδος του σφάλματος και να επιζητείται συνεχώς η μείωσή του , είτε με ακριβέστερες μετρήσεις είτε είτε συγκρίνοντας το αποτέλεσμα με άλλα αποτελέσματα από ακριβέστερα στοιχε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ική τιμή= η εκτιμώμενη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ση τιμή= η πλησιέστερη στην εκτιμώμενη ηλικία τιμή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φάλμα= η διαφορά της πραγματικής και της μέσης τιμ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σφάλματος= πόσο κοντά είναι το αποτέλεσμα της μετρούμενης ηλικίας στην πραγματική ηλικ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μέτρο βεβαιότητας για την ακρίβεια και συνέπεια του αποτελέσ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 το εύρος της καμπύλης μικραίνει τόσο πιο ακριβής είναι η μέτρηση</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μαγνητόμετρο επηρεάζεται από μεταλλικά αντικείμενα. Ενδεχομένως την ώρα της μέτρησης στην ύπαιθρο για τον εκτοπισμό θαμμένων αρχαιοτήτων να περάσει από εκεί κάποιο αυτοκίνητ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επαίσθητες μεταβολές της τάσης του ρεύματος μπορεί να επηρεάσουν τη συγκεκριμένη μέτρηση που γίνεται με ευαίσθητα ηλεκτρονικά όργαν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ρόσεκτες κινήσεις ερευνητών- συνεργατών κατά τη διάρκεια της Θερμοφωταύγει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οσμική ακτινοβολία τη στιγμή της μέτρησης με ακτίνες γάμ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ατά τη διαδικασία κονιορτοποίησης κεραμικού πιθανώς να εντοπιστούν ρινίσματα μετάλλου, από το μεταλλικό γουδοχέρ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ές συνθήκες του δείγματος θεωρούνται οι συνθήκες που κατά το δυνατό υπήρχαν στη διάρκεια ζωής του προς μέτρηση δείγματος.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 ένα ξύλινο δείγμα βρεθεί σε έλος, τότε πολύ πιθανό να υπολογιστεί και ο </a:t>
            </a:r>
            <a:r>
              <a:rPr b="0" lang="en-US" sz="1200" spc="-1" strike="noStrike">
                <a:solidFill>
                  <a:srgbClr val="000000"/>
                </a:solidFill>
                <a:latin typeface="Times New Roman"/>
              </a:rPr>
              <a:t>C14</a:t>
            </a:r>
            <a:r>
              <a:rPr b="0" lang="el-GR" sz="1200" spc="-1" strike="noStrike">
                <a:solidFill>
                  <a:srgbClr val="000000"/>
                </a:solidFill>
                <a:latin typeface="Times New Roman"/>
              </a:rPr>
              <a:t> που περιέχει το νερό στο οποίο εντοπίστηκε το δείγμα, του οποίου τα άλατα περιέχουν </a:t>
            </a:r>
            <a:r>
              <a:rPr b="0" lang="en-US" sz="1200" spc="-1" strike="noStrike">
                <a:solidFill>
                  <a:srgbClr val="000000"/>
                </a:solidFill>
                <a:latin typeface="Times New Roman"/>
              </a:rPr>
              <a:t>C1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επιστημονικής μεθόδου.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επιστημονικές σπουδές μέσω της αρχαιομετρίας είναι πλέον ενσωματωμένες στην Αρχαιολογία και υπάρχει έντονα η ελπίδα ότι μέσα από τις πρώτες αυτές αρχές θα αναδυθεί μια ώριμη επιστήμη για τη μελέτη και ανασύσταση του ανθρώπινου παρελθόν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ΣΦΆΛΜΑ ΣΤΙΣ ΑΡΧΑΙΟΜΕΤΡΙΚΕΣ ΜΕΤΡΗ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να παράγουμε έναν αριθμό σε μια μέτρηση πάνω σε ένα εύρημα είναι η μισή απάντηση για τη χρονολόγηση. Είναι βέβαια σημαντική η πρόληψη και η αποφυγή των σφαλμάτων, αλλά είναι και «αναγκαίο κακ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ζήτημα του σφάλματος βασίζεται σε δύο μαθηματικά αξιώματα, που αναφέρονται στις μετρή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τίμηση του σφάλματος = πόσο κοντά είναι το σφάλμα στην πραγματική ηλικία του ευρή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κρίβεια = μέτρο βεβαιότητας για την ακρίβεια του αποτελέσματός μας, κατά πόσο είναι ακριβές το σφάλμ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ΣΟΧΗ, το σφάλμα πρέπει πάντα να υπάρχει, όταν μιλάμε για ακρίβεια δεν εννοούμε την ακρίβεια της μέτρησής μας, αλλά την ακρίβεια του σφάλματος.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άθε μέτρηση ενός φυσικού μεγέθους συνοδεύεται από ένα σφάλμ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υτό σημαίνει ότι δίνονται πιθανά περιθώρια ώστε η μέτρηση ενός φυσικού μεγέθους να είναι σωστ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2000 +/-200 χρόνια (95%), σημαίνει ότι κατά 95% η σωστή ηλικία είναι 1800 με 2200 χρόνι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σφάλμα στη βιβλιογραφία εντοπίζεται ως ποσοστό επί τοις εκατό (%) είτε με τη μορφή 1σ (=68,27%), 2σ (95,43%), 3σ (99,73%) κλπ.</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σφάλματα δηλώνουν την πιθανότητα η μετρούμενη  ή παρατηρούμενη ποσότητα να είναι πλησίον της πραγματικ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εισαγωγή των όρων αυτών ανάγεται στο 1733, στον Ντρεμουαβρ,  και ανεξάρτητα αναπτύχθηκε από τον Λαπλάς και τον Γκάους, γι αυτό και αναφέρεται ως Γκαουσιανός νόμος σφαλμάτ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E8241-299C-45B7-B059-2E746B6EF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7863-D2CE-40AF-B0B9-918E691EA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C5106-8275-40B2-884B-72E8422D3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A47D7-4443-4083-A2BA-494DDC33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97EE-89CD-4840-9F6B-74794D65D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9AB6-F48B-41B6-BC87-F4BE4EA7C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2424B-5DA2-45E4-91EE-ECC21E2D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9B39C-A9E5-41A7-837A-A87F57AE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F845F-3FA4-409C-BC43-7B6A0F8D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B53D-5E96-46BD-A5A4-70B0E14E1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C01D-42F6-4B3F-AD24-332698D7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025D6-DAF5-422C-84ED-40C57E563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2BE5-54A3-4732-AFA5-D9F2B3FBB0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Πρόκληση σφάλματος στους υπολογισμούς</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παλοιφή δεκαδικών ψηφίων</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Υπολογιστικά λάθ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Λάθος μαθηματική εξίσωση</a:t>
            </a:r>
            <a:endParaRPr b="0" lang="en-US" sz="3200" spc="-1" strike="noStrike">
              <a:solidFill>
                <a:srgbClr val="000000"/>
              </a:solidFill>
              <a:latin typeface="Times New Roman"/>
            </a:endParaRPr>
          </a:p>
          <a:p>
            <a:pPr marL="609480" indent="-609480" algn="ctr">
              <a:lnSpc>
                <a:spcPct val="10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ριθμοί κατά προσέγγιση</a:t>
            </a:r>
            <a:endParaRPr b="0" lang="en-US" sz="3200" spc="-1" strike="noStrike">
              <a:solidFill>
                <a:srgbClr val="000000"/>
              </a:solidFill>
              <a:latin typeface="Times New Roman"/>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Έννοιες - κλειδιά</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αγματική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Μέση τιμή</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κτίμηση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κρίβεια</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520" y="952560"/>
            <a:ext cx="80010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αγματική τιμή στην αρχαιομετρία είναι η ηλικία του δείγματος. Δεν μπορεί να προσδιοριστεί με ακρίβεια, αλλά μπορεί να προσεγγιστεί, αν το σφάλμα μικρύνε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καλύτερη εκτίμηση της πραγματικής τιμής είναι η μέση τιμ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Υπάρχει άμεση εξάρτηση από την Γκαουσιανή καμπύλη.</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5181480"/>
            <a:ext cx="7772400" cy="91440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Πηγή: http://hyperion.math.upatras.gr/courses/sts/thefoit/erg99/terizioti_etal/Image12.jpg</a:t>
            </a:r>
            <a:endParaRPr b="0" lang="en-US" sz="2000" spc="-1" strike="noStrike">
              <a:solidFill>
                <a:srgbClr val="000000"/>
              </a:solidFill>
              <a:latin typeface="Times New Roman"/>
            </a:endParaRPr>
          </a:p>
        </p:txBody>
      </p:sp>
      <p:pic>
        <p:nvPicPr>
          <p:cNvPr id="72" name="" descr=""/>
          <p:cNvPicPr/>
          <p:nvPr/>
        </p:nvPicPr>
        <p:blipFill>
          <a:blip r:embed="rId2"/>
          <a:stretch/>
        </p:blipFill>
        <p:spPr>
          <a:xfrm>
            <a:off x="961920" y="533520"/>
            <a:ext cx="7218360" cy="4568760"/>
          </a:xfrm>
          <a:prstGeom prst="rect">
            <a:avLst/>
          </a:prstGeom>
          <a:ln w="0">
            <a:noFill/>
          </a:ln>
        </p:spPr>
      </p:pic>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09480"/>
            <a:ext cx="7772400" cy="6019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ahoma"/>
              </a:rPr>
              <a:t>Παράδειγμα 1ο</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Πρώτη εκτίμηση υπολογισμού σφάλματος.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Η πυραμίδα του Χέοπα χρονολογείται στο 2500 π.Χ. </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Από χρονολόγηση λαξευμένου ογκόλιθου πήραμε ηλικία 2380π.Χ. </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a:t>
            </a:r>
            <a:r>
              <a:rPr b="0" lang="el-GR" sz="3200" spc="-1" strike="noStrike">
                <a:solidFill>
                  <a:srgbClr val="000000"/>
                </a:solidFill>
                <a:latin typeface="Tahoma"/>
              </a:rPr>
              <a:t>πομένως το σφάλμα εκτιμάται αρχικά στα</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2500-2380=120 χρόνια</a:t>
            </a:r>
            <a:r>
              <a:rPr b="0" lang="en-US" sz="3200" spc="-1" strike="noStrike">
                <a:solidFill>
                  <a:srgbClr val="000000"/>
                </a:solidFill>
                <a:latin typeface="Tahoma"/>
              </a:rPr>
              <a:t>/ 4.9%</a:t>
            </a:r>
            <a:r>
              <a:rPr b="0" lang="el-GR" sz="3200" spc="-1" strike="noStrike">
                <a:solidFill>
                  <a:srgbClr val="000000"/>
                </a:solidFill>
                <a:latin typeface="Tahoma"/>
              </a:rPr>
              <a:t>.</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Άρα η ηλικία της πυραμίδας είναι 2500±120</a:t>
            </a:r>
            <a:r>
              <a:rPr b="0" lang="en-US" sz="3200" spc="-1" strike="noStrike">
                <a:solidFill>
                  <a:srgbClr val="000000"/>
                </a:solidFill>
                <a:latin typeface="Tahoma"/>
              </a:rPr>
              <a:t>/ 4.9%</a:t>
            </a:r>
            <a:endParaRPr b="0" lang="en-US" sz="3200" spc="-1" strike="noStrike">
              <a:solidFill>
                <a:srgbClr val="000000"/>
              </a:solidFill>
              <a:latin typeface="Times New Roman"/>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Times New Roman"/>
              </a:rPr>
              <a:t>2ο παράδειγμα.</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στω ότι το εύρημα είναι </a:t>
            </a:r>
            <a:r>
              <a:rPr b="1" lang="el-GR" sz="3200" spc="-1" strike="noStrike">
                <a:solidFill>
                  <a:srgbClr val="000000"/>
                </a:solidFill>
                <a:latin typeface="Times New Roman"/>
              </a:rPr>
              <a:t>2380±30</a:t>
            </a:r>
            <a:r>
              <a:rPr b="1" lang="en-US" sz="3200" spc="-1" strike="noStrike">
                <a:solidFill>
                  <a:srgbClr val="000000"/>
                </a:solidFill>
                <a:latin typeface="Times New Roman"/>
              </a:rPr>
              <a:t>/ 1.2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ηλικία υπολογίζεται από </a:t>
            </a:r>
            <a:r>
              <a:rPr b="1" lang="el-GR" sz="3200" spc="-1" strike="noStrike">
                <a:solidFill>
                  <a:srgbClr val="000000"/>
                </a:solidFill>
                <a:latin typeface="Times New Roman"/>
              </a:rPr>
              <a:t>2350</a:t>
            </a:r>
            <a:r>
              <a:rPr b="0" lang="el-GR" sz="3200" spc="-1" strike="noStrike">
                <a:solidFill>
                  <a:srgbClr val="000000"/>
                </a:solidFill>
                <a:latin typeface="Times New Roman"/>
              </a:rPr>
              <a:t> έως </a:t>
            </a:r>
            <a:r>
              <a:rPr b="1" lang="el-GR" sz="3200" spc="-1" strike="noStrike">
                <a:solidFill>
                  <a:srgbClr val="000000"/>
                </a:solidFill>
                <a:latin typeface="Times New Roman"/>
              </a:rPr>
              <a:t>2410</a:t>
            </a:r>
            <a:r>
              <a:rPr b="0" lang="el-G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δεύτερη μέτρηση δώσει ηλικία </a:t>
            </a:r>
            <a:r>
              <a:rPr b="1" lang="el-GR" sz="3200" spc="-1" strike="noStrike">
                <a:solidFill>
                  <a:srgbClr val="000000"/>
                </a:solidFill>
                <a:latin typeface="Times New Roman"/>
              </a:rPr>
              <a:t>2410</a:t>
            </a:r>
            <a:r>
              <a:rPr b="0" lang="el-GR" sz="3200" spc="-1" strike="noStrike">
                <a:solidFill>
                  <a:srgbClr val="000000"/>
                </a:solidFill>
                <a:latin typeface="Times New Roman"/>
              </a:rPr>
              <a:t>, αλλάζει μεν η εκτίμηση, αλλά όχι η ακρίβεια, διότι βρισκόμαστε εντός των ορίων που καθορίζονται από το δείγμα.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 μια άλλη μέτρηση δώσει ηλικία </a:t>
            </a:r>
            <a:r>
              <a:rPr b="1" lang="el-GR" sz="3200" spc="-1" strike="noStrike">
                <a:solidFill>
                  <a:srgbClr val="000000"/>
                </a:solidFill>
                <a:latin typeface="Times New Roman"/>
              </a:rPr>
              <a:t>2340</a:t>
            </a:r>
            <a:r>
              <a:rPr b="0" lang="el-GR" sz="3200" spc="-1" strike="noStrike">
                <a:solidFill>
                  <a:srgbClr val="000000"/>
                </a:solidFill>
                <a:latin typeface="Times New Roman"/>
              </a:rPr>
              <a:t>, τότε μεταβάλλεται και η ακρίβεια  και η εκτίμηση, διότι ο αριθμός </a:t>
            </a:r>
            <a:r>
              <a:rPr b="1" lang="el-GR" sz="3200" spc="-1" strike="noStrike">
                <a:solidFill>
                  <a:srgbClr val="000000"/>
                </a:solidFill>
                <a:latin typeface="Times New Roman"/>
              </a:rPr>
              <a:t>2340</a:t>
            </a:r>
            <a:r>
              <a:rPr b="0" lang="el-GR" sz="3200" spc="-1" strike="noStrike">
                <a:solidFill>
                  <a:srgbClr val="000000"/>
                </a:solidFill>
                <a:latin typeface="Times New Roman"/>
              </a:rPr>
              <a:t> είναι εκτός των ορίων που ορίζει το σφάλμα.</a:t>
            </a:r>
            <a:endParaRPr b="0" lang="en-US" sz="3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304560"/>
            <a:ext cx="7772400" cy="6553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η Γκαουσιανή καμπύλη το εύρος της κατανομής όλων των αποτελεσμάτων των ηλικιών είναι ένα μέτρο ακρίβειας των μετρήσεω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απόσταση της μέσης κατανομής  από την πραγματική τιμή είναι μέτρο του εκτιμώμενου σφάλματος των ηλικιώ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ικρό εύρος καμπύλη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γαλύτερη ακρίβει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 descr=""/>
          <p:cNvPicPr/>
          <p:nvPr/>
        </p:nvPicPr>
        <p:blipFill>
          <a:blip r:embed="rId2"/>
          <a:stretch/>
        </p:blipFill>
        <p:spPr>
          <a:xfrm>
            <a:off x="1967040" y="3048120"/>
            <a:ext cx="5209920" cy="2784240"/>
          </a:xfrm>
          <a:prstGeom prst="rect">
            <a:avLst/>
          </a:prstGeom>
          <a:ln w="0">
            <a:noFill/>
          </a:ln>
        </p:spPr>
      </p:pic>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42720" y="0"/>
            <a:ext cx="8458200" cy="68580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μέσος όρος των τιμών που παίρνουμε από τη μέτρηση. Αν έχω τέσσερις μετρήσεις ηλικίας, το άθροισμα π[ρέπει να διαιρείται ισότιμα σε ακέραιο αριθμό.</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Διάμεση τιμή</a:t>
            </a:r>
            <a:r>
              <a:rPr b="0" lang="en-US" sz="2600" spc="-1" strike="noStrike">
                <a:solidFill>
                  <a:srgbClr val="000000"/>
                </a:solidFill>
                <a:latin typeface="Wingdings"/>
                <a:ea typeface="Wingdings"/>
              </a:rPr>
              <a:t></a:t>
            </a:r>
            <a:r>
              <a:rPr b="0" lang="en-US" sz="2600" spc="-1" strike="noStrike">
                <a:solidFill>
                  <a:srgbClr val="000000"/>
                </a:solidFill>
                <a:latin typeface="Tahoma"/>
              </a:rPr>
              <a:t> ομοιότητα με τη μέση τιμή. Στην κατανομή των ηλικιών πρέπει τα μισά δεδομένα να τοποθετούνται πάνω από την τιμή αυτή και τα μισά κάτω από αυτή.</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Μέση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η απόκλιση που έχουν οι τιμές μετρήσεων από την κεντρική ηλικία</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Σταθερή και τυπική απόκλιση</a:t>
            </a:r>
            <a:r>
              <a:rPr b="0" lang="en-US" sz="2600" spc="-1" strike="noStrike">
                <a:solidFill>
                  <a:srgbClr val="000000"/>
                </a:solidFill>
                <a:latin typeface="Wingdings"/>
                <a:ea typeface="Wingdings"/>
              </a:rPr>
              <a:t></a:t>
            </a:r>
            <a:r>
              <a:rPr b="0" lang="en-US" sz="2600" spc="-1" strike="noStrike">
                <a:solidFill>
                  <a:srgbClr val="000000"/>
                </a:solidFill>
                <a:latin typeface="Tahoma"/>
              </a:rPr>
              <a:t> μέτρο διασποράς των δεδομένων</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πιθανότητα</a:t>
            </a:r>
            <a:r>
              <a:rPr b="0" lang="en-US" sz="2600" spc="-1" strike="noStrike">
                <a:solidFill>
                  <a:srgbClr val="000000"/>
                </a:solidFill>
                <a:latin typeface="Wingdings"/>
                <a:ea typeface="Wingdings"/>
              </a:rPr>
              <a:t></a:t>
            </a:r>
            <a:r>
              <a:rPr b="0" lang="en-US" sz="2600" spc="-1" strike="noStrike">
                <a:solidFill>
                  <a:srgbClr val="000000"/>
                </a:solidFill>
                <a:latin typeface="Tahoma"/>
              </a:rPr>
              <a:t> Έστω ότι έχω ένα γεγονός Γ. Η επανάληψη των μετρήσεων γίνεται ν φορές και δίνει ρ συμπεράσματα. Ο λόγος του αριθμού των συμπερασμάτων προς τον αριθμό των μετρήσεων δίνει την πιθανότητα να συμβεί το γεγονός.</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ατανομή δεδομένων</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λαμβάνουμε πολλά δεδομένα και σχεδιάζουμε καμπύλη με τα δεδομένα. Τα δεδομένα τοποθετούνται γύρω από μια τιμή Α που είναι πραγματική τιμή και κορυφή της καμπύλης.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1σ=68,3%. Αυτό σημαίνει ότι το 68,3% των σημείων θα είναι μεταξύ Α-1σ και Α+1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2"/>
          <a:stretch/>
        </p:blipFill>
        <p:spPr>
          <a:xfrm>
            <a:off x="2097000" y="2286000"/>
            <a:ext cx="4948200" cy="3132000"/>
          </a:xfrm>
          <a:prstGeom prst="rect">
            <a:avLst/>
          </a:prstGeom>
          <a:ln w="0">
            <a:noFill/>
          </a:ln>
        </p:spPr>
      </p:pic>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609120"/>
            <a:ext cx="7924680" cy="525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πορεί να αλλάξει το σφάλμα κατά τις μετρήσεις, αλλά η ακρίβεια δεν αλλάζει.</a:t>
            </a:r>
            <a:br>
              <a:rPr sz="4400"/>
            </a:br>
            <a:endParaRPr b="0" lang="en-US" sz="4400" spc="-1" strike="noStrike">
              <a:solidFill>
                <a:srgbClr val="000000"/>
              </a:solidFill>
              <a:latin typeface="Times New Roman"/>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υχαίο Σφάλμα</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αρουσιάζονται κατά τη μέτρηση από καθαρά τυχαίους παράγοντες (π.χ. μεταλλικά αντικείμενα, παροχή ηλεκτροδότησης, λάθος κινήσεις ερευνητών, κοσμική ακτινοβολία, δειγματοληψία ή αναπόφευκτα στοιχεία στην προετοιμασία του δείγματος)</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αποφυγή</a:t>
            </a:r>
            <a:r>
              <a:rPr b="0" lang="en-US" sz="2800" spc="-1" strike="noStrike">
                <a:solidFill>
                  <a:srgbClr val="000000"/>
                </a:solidFill>
                <a:latin typeface="Wingdings"/>
                <a:ea typeface="Wingdings"/>
              </a:rPr>
              <a:t></a:t>
            </a:r>
            <a:r>
              <a:rPr b="0" lang="en-US" sz="2800" spc="-1" strike="noStrike">
                <a:solidFill>
                  <a:srgbClr val="000000"/>
                </a:solidFill>
                <a:latin typeface="Tahoma"/>
              </a:rPr>
              <a:t>μέτρηση σε όσο το δυνατόν πιο φυσικές συνθήκες για το δείγμα και επαναλήψεις μετρήσεων.</a:t>
            </a:r>
            <a:endParaRPr b="0" lang="en-US" sz="2800" spc="-1" strike="noStrike">
              <a:solidFill>
                <a:srgbClr val="000000"/>
              </a:solidFill>
              <a:latin typeface="Times New Roman"/>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υστηματικά σφάλματα</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ο περιβάλλον ανεύρεσης του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ξαρτώνται από τη διαδικασία προετοιμασίας του δείγματος</a:t>
            </a:r>
            <a:endParaRPr b="0" lang="en-US" sz="3200" spc="-1" strike="noStrike">
              <a:solidFill>
                <a:srgbClr val="000000"/>
              </a:solidFill>
              <a:latin typeface="Times New Roman"/>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Πρόσφατη βελτίωση</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ΑΛΜΑ</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Ένας μόνο αριθμός που αναφέρεται στη χρονολόγηση ενός ευρήματος είναι μισή απάντηση στο θέμα της χρονολόγησης. Η άλλη μισή απάντηση είναι το σφάλμα.</a:t>
            </a:r>
            <a:endParaRPr b="0" lang="en-US" sz="3200" spc="-1" strike="noStrike">
              <a:solidFill>
                <a:srgbClr val="000000"/>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Μαθηματικά αξιώματα</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1ο</a:t>
            </a:r>
            <a:r>
              <a:rPr b="0" lang="en-US" sz="2800" spc="-1" strike="noStrike">
                <a:solidFill>
                  <a:srgbClr val="000000"/>
                </a:solidFill>
                <a:latin typeface="Tahoma"/>
              </a:rPr>
              <a:t>: καμία μέτρηση δεν παράγει κανένα αποτέλεσμα αν δε συνοδεύεται από ένα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Αξίωμα 2ο</a:t>
            </a:r>
            <a:r>
              <a:rPr b="0" lang="en-US" sz="2800" spc="-1" strike="noStrike">
                <a:solidFill>
                  <a:srgbClr val="000000"/>
                </a:solidFill>
                <a:latin typeface="Tahoma"/>
              </a:rPr>
              <a:t>: το αποτέλεσμα κάθε μέτρησης είναι άχρηστο, εκτός κι αν συνοδεύεται με το αντίστοιχο σφάλμα</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Λυριτζής ι., 2007, </a:t>
            </a:r>
            <a:r>
              <a:rPr b="0" i="1" lang="en-US" sz="2000" spc="-1" strike="noStrike">
                <a:solidFill>
                  <a:srgbClr val="000000"/>
                </a:solidFill>
                <a:latin typeface="Tahoma"/>
              </a:rPr>
              <a:t>Φυσικές Επιστήμες στην Αρχαιολογία, </a:t>
            </a:r>
            <a:r>
              <a:rPr b="0" lang="en-US" sz="2000" spc="-1" strike="noStrike">
                <a:solidFill>
                  <a:srgbClr val="000000"/>
                </a:solidFill>
                <a:latin typeface="Tahoma"/>
              </a:rPr>
              <a:t>Εκδόσεις Δάρδανος Τυπωθήτω, Αθήνα, σ.σ. 56</a:t>
            </a:r>
            <a:endParaRPr b="0" lang="en-US" sz="2000" spc="-1" strike="noStrike">
              <a:solidFill>
                <a:srgbClr val="000000"/>
              </a:solidFill>
              <a:latin typeface="Times New Roman"/>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Βασικές έννοιες</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Εκτίμηση του σφάλματος</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ακρίβεια</a:t>
            </a:r>
            <a:endParaRPr b="0" lang="en-US" sz="3200" spc="-1" strike="noStrike">
              <a:solidFill>
                <a:srgbClr val="000000"/>
              </a:solidFill>
              <a:latin typeface="Times New Roman"/>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σφάλμα</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Κάθε μέτρηση φυσικού μεγέθους συνοδεύεται από ένα σφάλμα</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Εμφάνιση ως ποσοστό % ή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1σ (=68,27%), 2σ (95,43%), 3σ (99,7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ahoma"/>
              </a:rPr>
              <a:t>Γκαουσιανός νόμος σφαλμάτων</a:t>
            </a:r>
            <a:endParaRPr b="0" lang="en-US" sz="32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6-10T10:18:48Z</dcterms:modified>
  <cp:revision>11</cp:revision>
  <dc:subject/>
  <dc:title>ΑΡΧΑΙΟΛΟΓΙΑ ΚΑΙ ΘΕΤΙΚΕΣ ΕΠΙΣΤΗΜΕΣ</dc:title>
</cp:coreProperties>
</file>